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F56-611C-43AA-A953-6C632128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DAB-597E-4FD2-8CCA-EC6B1F00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072-E35A-4C9D-AFA7-24D5705E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E8E-1938-40A1-B357-7E4A0FFD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2D6D-12C5-4240-96EA-CB5EC0CD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3BF6-92B2-4C93-8A1B-2BBFAA59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F6C0-8F0F-4B30-B4F8-71C68C2F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AD68-F4B2-41B8-BEE9-F6D7145F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3BC6-988D-4C1A-AEC1-75C5F7EA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0F8B-2D4C-47C0-800F-DAAEF0C0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B95D-4927-477B-BE1A-34221D3B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F8F-7D79-47AE-AC2C-9D72BC15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F181-FA25-4532-A308-26192B64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BB81-0717-4E6E-8A89-4AA88D25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1297-D6FD-45DF-9EE3-4C528661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D0CE-1330-4EFC-9C1C-C8E39CD3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E377-8CC9-4DE3-88FD-2A2D0184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D7A-F9BD-448D-BB77-AFB9B4D6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A67-AE66-4328-80CF-E02AC476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CD3-AE4C-4D95-B0BF-79C06018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C5A-2C24-49AD-AEA7-4E5FEE0A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C77-1B1A-46BE-A9BD-43C03D94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E12-1D1E-4610-9CFB-1E6CB7CD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53C-440E-470E-A04C-820DE2BC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70B6-0E9D-46EA-AC3E-B98100E930B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45E4-F198-40DE-93C0-AE68547E3C3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33600" y="-166680"/>
            <a:ext cx="60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0305" descr=""/>
          <p:cNvPicPr/>
          <p:nvPr/>
        </p:nvPicPr>
        <p:blipFill>
          <a:blip r:embed="rId1"/>
          <a:stretch/>
        </p:blipFill>
        <p:spPr>
          <a:xfrm>
            <a:off x="3998880" y="50760"/>
            <a:ext cx="5005440" cy="666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2760" y="1052640"/>
            <a:ext cx="30016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пера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 Х.Битструпу, 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сихология личност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Соотношение генетического и социального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анализ З.Фрейда, «конституционная психология» Э.Кречм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социализации, теория научения (Э.Торндайк, Б.Скиннер и др.), теория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генет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Ж.Пиаже, психодинамические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оци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Биосоциальный подход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логические предпосылки (тип нервной системы, половые особенности, задатки и т.п.) определяют некоторую предрасположенность к чему-либо, однако социальная среда оказывает важное влияни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933720"/>
            <a:ext cx="2160720" cy="24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581360"/>
            <a:ext cx="3024000" cy="1151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530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4797360"/>
            <a:ext cx="237636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Генетическое   и   Социальное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421000"/>
          <a:ext cx="8223480" cy="4317840"/>
        </p:xfrm>
        <a:graphic>
          <a:graphicData uri="http://schemas.openxmlformats.org/drawingml/2006/table">
            <a:tbl>
              <a:tblPr/>
              <a:tblGrid>
                <a:gridCol w="3600720"/>
                <a:gridCol w="4622760"/>
              </a:tblGrid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мо-физиологические особенности индивидуума лежащие в основе развития способностей, потенциал индивид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ая реализация потенциала (задатков), динамическое понятие обозначающее индивидуально-психологические особенности проявляющиеся в успешности выполнения какой либо деятель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показателей характеризующих динамические особенности психической деятельности индиви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окупность устойчивых индивидуальных особенностей человека обуславливающих типичные способы поведение в определенных жизненных ситуациях и выражающих отношение человека к миру и к самому себ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Феномен человек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3573000"/>
            <a:ext cx="7726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атегория принадлежности к человеческому р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зультат включения в пространство межиндивидуальных связей и может пониматься как относительно устойчивая совокупность психических свой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овторимость, уникальность свойств человека, сочетание всех свойств человека как индивида и как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4160" y="2565360"/>
            <a:ext cx="6014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умом рождаются, Личностью становя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ндивидуальность отстаивают. (В.П.Зинченк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Закономерност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развития лежит вне на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а ближайшего разви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Л.С.Выготск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зитивные пери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а личност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.Л.Рубинштейн, К.К.Платон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 и зад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мент и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психических процессов и состоя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й опыт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5:54:02Z</dcterms:created>
  <dc:creator>Александр</dc:creator>
  <dc:description/>
  <dc:language>en-US</dc:language>
  <cp:lastModifiedBy>юлий</cp:lastModifiedBy>
  <dcterms:modified xsi:type="dcterms:W3CDTF">2009-11-17T11:37:34Z</dcterms:modified>
  <cp:revision>7</cp:revision>
  <dc:subject/>
  <dc:title>Психология лич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10000000000010250600207f5200358026400</vt:lpwstr>
  </property>
</Properties>
</file>